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B6C-CE14-4462-A3DA-E2B1B9E1045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4D7-4220-456E-9E22-673A579595D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DFB-E8A7-48B4-9C88-ACDD4BD1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8B3-FAC4-4430-92F4-E0512ECA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B28-8DC3-4C56-AEA9-A945EAE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3BB-6713-4842-AFA9-C04A1F53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3083-1548-40BF-B718-2DC345C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342C-1541-43F9-93CD-89433F6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CD71-882D-410D-88D8-9D9A655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4EE8-6F6C-4234-B15E-FB8CDF0C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06F0-CBD4-4690-BA44-6CCA85A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D4DA-21C5-4C4D-B5B5-3F27264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CEE-647E-4F46-A0E9-5F0D095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E8F-CF83-4BCB-A2C3-7C73E7A2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8A78-AB05-4FC1-A785-EE8EE78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CF1-2054-416F-9DF7-D353435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9B56-4FE7-4F2C-AD4F-FE9D1A9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1A08-2D03-4507-8692-04EED072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8C6-8297-41E9-B3E7-34F9B37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1413-3A4E-4030-B920-44797AD5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1BF7-14CA-4B23-B863-FB1BE00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FAC7-279C-4517-9215-0804BE35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02A4-296E-40AF-A958-5A867F1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11D9-1CFF-4103-A9F3-84F9B300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18D-1CF5-431C-9BE4-9924C993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71D9-1AE3-4F9D-AADE-CB5C343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0DA4-F505-4C0B-85BF-B6D79F9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073C-58A2-45D5-9714-2633C13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8E61-6ADF-40B8-A19E-BFE0D29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E226-3410-4588-A587-67F19D7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B6FE-8F3D-4E37-B9CF-7A64725E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26DE-9E0A-4CB2-A0EC-6DB0A9C9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B180-163A-4D15-81B1-B8360A42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40AB-A8D3-4342-9C55-75B30B1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FF8D-D57D-4C13-AEC8-FFEC39F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C22-A172-4DDF-AF28-25EBAFAD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9694-03D8-4E2B-9F06-B1B8F37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C0DD-9A79-49DA-BE19-7D2B662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45F0-A833-40F1-8CD9-16936A4B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22E3-E286-4AAB-9D8B-D3E73F5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DC55-8E2C-4C3B-95C4-648A127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4760-8D02-4AC7-B57F-77C9164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5C2D-8EA3-45D6-9617-3A6FE20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4A91-EE39-4FDF-BB56-77D9A5DF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2FEE-2C98-4E62-915B-173F9EB4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EC09-AF75-425D-A606-FEA3886B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4BB-ACD0-417B-A506-89DD7EE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FC5B-2520-45F6-A826-90404E3C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187D-B036-4B83-8F82-F4E8AD72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7313-B8D1-4319-B037-A06F189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64B2-C880-4067-9897-80C69CF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58F13-A1AD-4E41-AA46-04EE49E4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C3F6-420F-4A9B-8820-BF130DB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E3C2-BC12-4277-8958-0249C76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E18F-EACE-4E7B-B4BB-B1B74D6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3677-EAA6-4330-9C59-152A5F0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98E7-F697-4F1F-95F3-D3048AF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5DE-DE9D-402D-B7D8-122B15B9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7C75-2A95-4BBA-A637-40A605C7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BDA9-FB19-4664-A5F2-60F85129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EA58-D200-43C7-8F95-A25C697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F7420-F74D-4AB7-A102-4B99EEA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A6FC-8FBF-4A5E-8509-6FEE85B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4624-2822-4D7D-AD15-E4EF6BA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5453-3A66-49A6-BECC-CF7274D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1425-642A-42BA-B046-0CE19105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4EA7-EA70-46F7-8EF1-4E77239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E2DF-7CB8-4ED9-BBCC-5BD08A4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D50-BAF7-4646-90F6-4342994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41F0-4DCB-49AA-982C-5907C662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11A9-7702-4C24-AF8B-E2B7878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A391-CC81-4FB0-86C6-22A7A65C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9ED7-4DCD-4F3D-9C55-F5C28AC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08A4-42CD-49B9-A02D-D964F64E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3DAC-74B1-45BD-97F4-7D8E51A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4E85-FFBD-43FE-8226-08AF3572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1DB42-5577-4EA3-A2A4-4E7F36CA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BE1D-761F-4BDD-B5BE-5B19B9B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CD0B-E275-4155-93A9-FE67A92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B20-5300-4733-96CD-E4A92A3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5CDE-0BEC-4953-82E9-5AE3F32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48B5-E230-4472-95DE-0537443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D8C4-1ABF-4C6A-AEA6-AF1D833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5614-AE75-483F-A733-FB02AE7C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48A4-C100-4E53-8B09-E8856BDE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02F2-E5FF-41D5-B309-B3BE808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9DE9-57DD-425B-86BE-9D8FEDF5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FC15B-8BD6-43CF-9C69-3333E20A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28078-BAEB-4DBA-B30C-74AF28F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53DF-A2BF-43D2-9A66-B5E8622A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F15-A6EA-443B-A997-17F3230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7718-61A5-4294-8792-3E69197E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3321-BC30-411B-852F-F1D9606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3234-6E51-4ED4-880F-3ADD71E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807C-B3C3-4544-AEC0-BF82087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86F4-64EA-442B-AC42-C4C7E040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0B52-26DA-41A4-9ECD-E1DCBE5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4E69-ABCE-46F6-8B27-37D8FE19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2E3-1C64-4DE7-99F5-24D4A81C38B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0F01-3603-481F-8400-78A4E3E46FFD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A646-38F3-456B-BFC7-A2250487738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FD8-C2FD-4CA2-9ADE-4B8F25B3DA0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9AB-3B1A-44F4-843D-93F155E275D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35E-FB74-48F9-9BCF-9BA561EFB55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660-4623-4FFF-8658-186ABFDAE09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18DA-A2A5-40D2-83A6-3E4EC2AA5950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1360"/>
            <a:ext cx="8047080" cy="1219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10920" y="1196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Moving a substance from a lower to a higher concent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Root hairs 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take in minerals through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Active Uptake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The concentration of minerals is higher in the root hair than in the soi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Needs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energy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 to uptake against the concentration gradi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Energy is provided by glucose from photosynthesis in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7200" y="-103320"/>
            <a:ext cx="82296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1.Flower: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ttracts insects in order to carry pollen and allows pollination and reproduc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2. Leaf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Produces food (glucose) made through photosynthesi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3. Stem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) holds the plant uprigh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b) Water and food travels up and down it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4. Root Hair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Provide large surface area to absorb water and (mineral) ions from the soi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5. Root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) Anchors plant to groun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b) takes in water and some mineral ions from soi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**Food does not come through the roots**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229600" cy="1157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0" y="944640"/>
            <a:ext cx="87487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Palisade Layer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Have chloroplasts which have chlorophyll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Where photosynthesis happe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Lots of air space in the palisade and spongy layer to allow CO2 to reach the palisade cell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Epidermis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- A wax that limits water loss (especially the top of the leaf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tomata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Little holes on the lower/under surface of the leaf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y allow CO2 in and water out:  where transpiration occur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Guard Cell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y control water loss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When water is scarce, they become flaccid (soft) and change shape, which closes the stomatal po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O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296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O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1008000" y="1052640"/>
            <a:ext cx="6085080" cy="4055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152280" y="133200"/>
            <a:ext cx="912024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50560" y="691920"/>
            <a:ext cx="889308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lants have two separate tubes: 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Xylem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Phlo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y go to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every part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 the plant.  Usually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beside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 each 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747720" y="2565360"/>
            <a:ext cx="7632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2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181160" y="1557360"/>
            <a:ext cx="654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2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0622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2:03:51Z</dcterms:created>
  <dc:creator>Laura</dc:creator>
  <dc:description/>
  <dc:language>en-US</dc:language>
  <cp:lastModifiedBy>USUARIO</cp:lastModifiedBy>
  <dcterms:modified xsi:type="dcterms:W3CDTF">2012-11-30T17:52:29Z</dcterms:modified>
  <cp:revision>10</cp:revision>
  <dc:subject/>
  <dc:title>Slide 1</dc:title>
</cp:coreProperties>
</file>